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jpeg" ContentType="image/jpeg"/>
  <Override PartName="/ppt/media/image48.jpeg" ContentType="image/jpeg"/>
  <Override PartName="/ppt/media/image46.jpeg" ContentType="image/jpeg"/>
  <Override PartName="/ppt/media/image80.wmf" ContentType="image/x-wmf"/>
  <Override PartName="/ppt/media/image44.jpeg" ContentType="image/jpeg"/>
  <Override PartName="/ppt/media/image43.jpeg" ContentType="image/jpeg"/>
  <Override PartName="/ppt/media/image42.jpeg" ContentType="image/jpeg"/>
  <Override PartName="/ppt/media/camera.wav" ContentType="audio/x-wav"/>
  <Override PartName="/ppt/media/image3.gif" ContentType="image/gif"/>
  <Override PartName="/ppt/media/image59.jpeg" ContentType="image/jpeg"/>
  <Override PartName="/ppt/media/image37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8.wmf" ContentType="image/x-wmf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7.wmf" ContentType="image/x-wmf"/>
  <Override PartName="/ppt/media/image26.jpeg" ContentType="image/jpeg"/>
  <Override PartName="/ppt/media/image23.jpeg" ContentType="image/jpeg"/>
  <Override PartName="/ppt/media/image20.gif" ContentType="image/gif"/>
  <Override PartName="/ppt/media/image53.jpeg" ContentType="image/jpeg"/>
  <Override PartName="/ppt/media/image39.jpeg" ContentType="image/jpeg"/>
  <Override PartName="/ppt/media/image8.jpeg" ContentType="image/jpeg"/>
  <Override PartName="/ppt/media/image21.gif" ContentType="image/gif"/>
  <Override PartName="/ppt/media/drumroll.wav" ContentType="audio/x-wav"/>
  <Override PartName="/ppt/media/image28.jpeg" ContentType="image/jpeg"/>
  <Override PartName="/ppt/media/image11.jpeg" ContentType="image/jpeg"/>
  <Override PartName="/ppt/media/image33.jpeg" ContentType="image/jpeg"/>
  <Override PartName="/ppt/media/laser.wav" ContentType="audio/x-wav"/>
  <Override PartName="/ppt/media/image50.jpeg" ContentType="image/jpeg"/>
  <Override PartName="/ppt/media/image51.jpeg" ContentType="image/jpeg"/>
  <Override PartName="/ppt/media/image19.wmf" ContentType="image/x-wmf"/>
  <Override PartName="/ppt/media/image67.jpeg" ContentType="image/jpeg"/>
  <Override PartName="/ppt/media/image56.jpeg" ContentType="image/jpeg"/>
  <Override PartName="/ppt/media/image54.jpeg" ContentType="image/jpeg"/>
  <Override PartName="/ppt/media/image9.jpeg" ContentType="image/jpeg"/>
  <Override PartName="/ppt/media/image76.png" ContentType="image/png"/>
  <Override PartName="/ppt/media/image74.jpeg" ContentType="image/jpeg"/>
  <Override PartName="/ppt/media/image47.jpeg" ContentType="image/jpeg"/>
  <Override PartName="/ppt/media/image69.jpeg" ContentType="image/jpeg"/>
  <Override PartName="/ppt/media/image55.jpeg" ContentType="image/jpeg"/>
  <Override PartName="/ppt/media/image4.jpeg" ContentType="image/jpeg"/>
  <Override PartName="/ppt/media/image45.jpeg" ContentType="image/jpeg"/>
  <Override PartName="/ppt/media/image66.jpeg" ContentType="image/jpeg"/>
  <Override PartName="/ppt/media/image16.wmf" ContentType="image/x-wmf"/>
  <Override PartName="/ppt/media/image57.jpeg" ContentType="image/jpeg"/>
  <Override PartName="/ppt/media/image63.jpeg" ContentType="image/jpeg"/>
  <Override PartName="/ppt/media/type.wav" ContentType="audio/x-wav"/>
  <Override PartName="/ppt/media/image79.png" ContentType="image/png"/>
  <Override PartName="/ppt/media/image68.jpeg" ContentType="image/jpeg"/>
  <Override PartName="/ppt/media/image65.jpeg" ContentType="image/jpeg"/>
  <Override PartName="/ppt/media/image64.jpeg" ContentType="image/jpeg"/>
  <Override PartName="/ppt/media/image70.png" ContentType="image/png"/>
  <Override PartName="/ppt/media/image7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carbrake.wav" ContentType="audio/x-wav"/>
  <Override PartName="/ppt/media/image52.jpeg" ContentType="image/jpeg"/>
  <Override PartName="/ppt/media/glass.wav" ContentType="audio/x-wav"/>
  <Override PartName="/ppt/media/image38.jpeg" ContentType="image/jpeg"/>
  <Override PartName="/ppt/media/image72.png" ContentType="image/png"/>
  <Override PartName="/ppt/media/image60.jpeg" ContentType="image/jpeg"/>
  <Override PartName="/ppt/media/image77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73.png" ContentType="image/png"/>
  <Override PartName="/ppt/media/image58.jpeg" ContentType="image/jpeg"/>
  <Override PartName="/ppt/media/projctor.wav" ContentType="audio/x-wav"/>
  <Override PartName="/ppt/media/image24.jpeg" ContentType="image/jpeg"/>
  <Override PartName="/ppt/media/image1.jpeg" ContentType="image/jpeg"/>
  <Override PartName="/ppt/media/image35.jpeg" ContentType="image/jpeg"/>
  <Override PartName="/ppt/media/image75.png" ContentType="image/png"/>
  <Override PartName="/ppt/media/image22.jpeg" ContentType="image/jpeg"/>
  <Override PartName="/ppt/media/image2.png" ContentType="image/png"/>
  <Override PartName="/ppt/media/cashreg.wav" ContentType="audio/x-wav"/>
  <Override PartName="/ppt/media/image25.jpeg" ContentType="image/jpeg"/>
  <Override PartName="/ppt/media/image36.jpeg" ContentType="image/jpeg"/>
  <Override PartName="/ppt/media/image5.jpeg" ContentType="image/jpeg"/>
  <Override PartName="/ppt/media/whoosh.wav" ContentType="audio/x-wav"/>
  <Override PartName="/ppt/media/image62.jpeg" ContentType="image/jpeg"/>
  <Override PartName="/ppt/media/image6.jpeg" ContentType="image/jpeg"/>
  <Override PartName="/ppt/media/image7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CB0-AB06-455D-9239-EB8B62B9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992-7A6E-4CBE-8F03-AFCBDDEE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1D9-2AA3-40E6-8E40-BBEF7B5C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B69-8E75-4838-B236-E1A5BD3E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FCF-5906-4F9A-81CC-95AABCE8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165-7909-4262-A747-464CA0B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8AD-BC4B-4216-81E3-A7191E78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E37-65AD-445F-83C9-03C88547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E547-196F-41CF-9962-43165141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1E2-E7CE-429D-ADE6-9A204EFD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360-B240-4957-8269-3F323DD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545-D1C6-43C1-B9E4-554D81AB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D3A0-3010-4194-9DB2-7354F8C925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.png"/><Relationship Id="rId7" Type="http://schemas.openxmlformats.org/officeDocument/2006/relationships/audio" Target="../media/glass.wav"/><Relationship Id="rId8" Type="http://schemas.openxmlformats.org/officeDocument/2006/relationships/audio" Target="../media/whoosh.wav"/><Relationship Id="rId9" Type="http://schemas.openxmlformats.org/officeDocument/2006/relationships/audio" Target="../media/carbrak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jpe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2286000"/>
            <a:ext cx="81532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华文新魏"/>
              </a:rPr>
              <a:t>交通安全教育……</a:t>
            </a:r>
            <a:endParaRPr b="1" i="1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304920" y="670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86400" y="3886200"/>
            <a:ext cx="255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0" y="6095880"/>
            <a:ext cx="4419720" cy="990720"/>
            <a:chOff x="0" y="6095880"/>
            <a:chExt cx="4419720" cy="990720"/>
          </a:xfrm>
        </p:grpSpPr>
        <p:sp>
          <p:nvSpPr>
            <p:cNvPr id="46" name="">
              <a:hlinkClick r:id="rId4" action="ppaction://hlinksldjump"/>
            </p:cNvPr>
            <p:cNvSpPr/>
            <p:nvPr/>
          </p:nvSpPr>
          <p:spPr>
            <a:xfrm>
              <a:off x="0" y="6095880"/>
              <a:ext cx="4419720" cy="990720"/>
            </a:xfrm>
            <a:prstGeom prst="rightArrowCallout">
              <a:avLst>
                <a:gd name="adj1" fmla="val 25002"/>
                <a:gd name="adj2" fmla="val 25000"/>
                <a:gd name="adj3" fmla="val 74352"/>
                <a:gd name="adj4" fmla="val 66667"/>
              </a:avLst>
            </a:prstGeom>
            <a:gradFill rotWithShape="0">
              <a:gsLst>
                <a:gs pos="0">
                  <a:srgbClr val="175e17"/>
                </a:gs>
                <a:gs pos="100000">
                  <a:srgbClr val="33cc33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3520" y="6400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李学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8534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启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个个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血淋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的教训和触目惊心的事实，警醒大家出门在外，千万要注意保护自己，严格遵守交通规则，一定要文明骑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505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与你们的同伴说说应怎样文明骑车来保护自己。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</a:rPr>
              <a:t>比一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哪班哪组说得既全又好呢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？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2" name="type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6858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骑自行车注意事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要做到不骑快车不猛拐，转弯要伸手示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0512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骑车两原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要匀速骑车，不要着急赶路：一在路口转弯处要减速慢行，不能猛拐抢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骑车时双手要扶把不玩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6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要做到骑车不带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交通法规规定：在城镇道路和郊区公路上不准骑车带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666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给你们表演一个大撤把！”这是一位高中生留给这美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世界的最后一句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200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横穿四条以上机动车道（如稠佛路）或通过陡坡，途中车闸失灵时，一定要下车推行通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2670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不可以攀附行驶中的机动车行驶；不得一手打伞，一手扶把行驶；不得闯红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54100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要经常检查车闸、车铃情况，保持车况正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2743200"/>
            <a:ext cx="9144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若你遇到或看到交通事故，该怎么办？？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2320" cy="1812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-304920" y="3733920"/>
            <a:ext cx="1898640" cy="153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95480" y="4648320"/>
            <a:ext cx="175752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971800" y="5192640"/>
            <a:ext cx="3352680" cy="166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7" name="glas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228600"/>
            <a:ext cx="7848360" cy="43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宋体"/>
              </a:rPr>
              <a:t>&lt;</a:t>
            </a:r>
            <a:r>
              <a:rPr b="0" lang="zh-CN" sz="3600" spc="-1" strike="noStrike">
                <a:solidFill>
                  <a:srgbClr val="66ff33"/>
                </a:solidFill>
                <a:latin typeface="宋体"/>
              </a:rPr>
              <a:t>急救方法</a:t>
            </a:r>
            <a:r>
              <a:rPr b="0" lang="zh-CN" sz="3600" spc="-1" strike="noStrike">
                <a:solidFill>
                  <a:srgbClr val="66ff33"/>
                </a:solidFill>
                <a:latin typeface="宋体"/>
              </a:rPr>
              <a:t>&gt;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要立即呼喊大人参与，同时拔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交通事故处理中心报案，如有人受伤拔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向急救中心呼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保护肇事现场，维持秩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现场急救后伤员根据轻重缓急由急救车运送。千万不要现场拦车 运送危重病人，否则由于其他车辆缺乏特殊抢救设备，伤员多半采用 不正确半坐位、半卧位、歪侧卧位等而加重伤势，甚至死于途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2" name="laser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95280" y="1828800"/>
            <a:ext cx="7162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，看谁认得标志多？？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95280" cy="60660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153280" y="5791320"/>
            <a:ext cx="762120" cy="8380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200400" y="6286680"/>
            <a:ext cx="6159600" cy="571320"/>
            <a:chOff x="3200400" y="6286680"/>
            <a:chExt cx="6159600" cy="571320"/>
          </a:xfrm>
        </p:grpSpPr>
        <p:sp>
          <p:nvSpPr>
            <p:cNvPr id="118" name=""/>
            <p:cNvSpPr/>
            <p:nvPr/>
          </p:nvSpPr>
          <p:spPr>
            <a:xfrm>
              <a:off x="3200400" y="6286680"/>
              <a:ext cx="1568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68920" y="6286680"/>
              <a:ext cx="1679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48680" y="6286680"/>
              <a:ext cx="1455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04160" y="6286680"/>
              <a:ext cx="14558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warn1" descr=""/>
          <p:cNvPicPr/>
          <p:nvPr/>
        </p:nvPicPr>
        <p:blipFill>
          <a:blip r:embed="rId1"/>
          <a:stretch/>
        </p:blipFill>
        <p:spPr>
          <a:xfrm>
            <a:off x="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warn4" descr=""/>
          <p:cNvPicPr/>
          <p:nvPr/>
        </p:nvPicPr>
        <p:blipFill>
          <a:blip r:embed="rId2"/>
          <a:stretch/>
        </p:blipFill>
        <p:spPr>
          <a:xfrm>
            <a:off x="220968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warn5" descr=""/>
          <p:cNvPicPr/>
          <p:nvPr/>
        </p:nvPicPr>
        <p:blipFill>
          <a:blip r:embed="rId3"/>
          <a:stretch/>
        </p:blipFill>
        <p:spPr>
          <a:xfrm>
            <a:off x="457200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warn6" descr=""/>
          <p:cNvPicPr/>
          <p:nvPr/>
        </p:nvPicPr>
        <p:blipFill>
          <a:blip r:embed="rId4"/>
          <a:stretch/>
        </p:blipFill>
        <p:spPr>
          <a:xfrm>
            <a:off x="6743880" y="304920"/>
            <a:ext cx="240012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arn9" descr=""/>
          <p:cNvPicPr/>
          <p:nvPr/>
        </p:nvPicPr>
        <p:blipFill>
          <a:blip r:embed="rId5"/>
          <a:stretch/>
        </p:blipFill>
        <p:spPr>
          <a:xfrm>
            <a:off x="0" y="3809880"/>
            <a:ext cx="2362320" cy="147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warn10" descr=""/>
          <p:cNvPicPr/>
          <p:nvPr/>
        </p:nvPicPr>
        <p:blipFill>
          <a:blip r:embed="rId6"/>
          <a:stretch/>
        </p:blipFill>
        <p:spPr>
          <a:xfrm>
            <a:off x="2209680" y="3733920"/>
            <a:ext cx="2476800" cy="1547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warn13" descr=""/>
          <p:cNvPicPr/>
          <p:nvPr/>
        </p:nvPicPr>
        <p:blipFill>
          <a:blip r:embed="rId7"/>
          <a:stretch/>
        </p:blipFill>
        <p:spPr>
          <a:xfrm>
            <a:off x="4648320" y="3657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warn15" descr=""/>
          <p:cNvPicPr/>
          <p:nvPr/>
        </p:nvPicPr>
        <p:blipFill>
          <a:blip r:embed="rId8"/>
          <a:stretch/>
        </p:blipFill>
        <p:spPr>
          <a:xfrm>
            <a:off x="6858000" y="3733920"/>
            <a:ext cx="228600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1905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十字交叉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18288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T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型交叉路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17524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Y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型交叉路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18288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环型交叉路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向弯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续弯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81480" y="563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两侧变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562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右侧变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78000" y="2949480"/>
            <a:ext cx="62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warn17" descr="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666800"/>
          </a:xfrm>
          <a:prstGeom prst="rect">
            <a:avLst/>
          </a:prstGeom>
          <a:ln w="0">
            <a:noFill/>
          </a:ln>
        </p:spPr>
      </p:pic>
      <p:pic>
        <p:nvPicPr>
          <p:cNvPr id="149" name="warn18" descr=""/>
          <p:cNvPicPr/>
          <p:nvPr/>
        </p:nvPicPr>
        <p:blipFill>
          <a:blip r:embed="rId2"/>
          <a:stretch/>
        </p:blipFill>
        <p:spPr>
          <a:xfrm>
            <a:off x="2209680" y="304920"/>
            <a:ext cx="2667240" cy="1666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arn19" descr=""/>
          <p:cNvPicPr/>
          <p:nvPr/>
        </p:nvPicPr>
        <p:blipFill>
          <a:blip r:embed="rId3"/>
          <a:stretch/>
        </p:blipFill>
        <p:spPr>
          <a:xfrm>
            <a:off x="4572000" y="385920"/>
            <a:ext cx="2514600" cy="15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warn22" descr=""/>
          <p:cNvPicPr/>
          <p:nvPr/>
        </p:nvPicPr>
        <p:blipFill>
          <a:blip r:embed="rId4"/>
          <a:stretch/>
        </p:blipFill>
        <p:spPr>
          <a:xfrm>
            <a:off x="6629400" y="38088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warn25" descr=""/>
          <p:cNvPicPr/>
          <p:nvPr/>
        </p:nvPicPr>
        <p:blipFill>
          <a:blip r:embed="rId5"/>
          <a:stretch/>
        </p:blipFill>
        <p:spPr>
          <a:xfrm>
            <a:off x="0" y="373392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warn26" descr=""/>
          <p:cNvPicPr/>
          <p:nvPr/>
        </p:nvPicPr>
        <p:blipFill>
          <a:blip r:embed="rId6"/>
          <a:stretch/>
        </p:blipFill>
        <p:spPr>
          <a:xfrm>
            <a:off x="2133720" y="3733920"/>
            <a:ext cx="2552760" cy="1595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warn30" descr=""/>
          <p:cNvPicPr/>
          <p:nvPr/>
        </p:nvPicPr>
        <p:blipFill>
          <a:blip r:embed="rId7"/>
          <a:stretch/>
        </p:blipFill>
        <p:spPr>
          <a:xfrm>
            <a:off x="4419720" y="3666960"/>
            <a:ext cx="2552760" cy="159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warn31" descr=""/>
          <p:cNvPicPr/>
          <p:nvPr/>
        </p:nvPicPr>
        <p:blipFill>
          <a:blip r:embed="rId8"/>
          <a:stretch/>
        </p:blipFill>
        <p:spPr>
          <a:xfrm>
            <a:off x="6553080" y="36576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3520" y="228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行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施工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铁路道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864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隧  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村  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易滑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信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28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注意儿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178000" y="2949480"/>
            <a:ext cx="62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forb1" descr=""/>
          <p:cNvPicPr/>
          <p:nvPr/>
        </p:nvPicPr>
        <p:blipFill>
          <a:blip r:embed="rId1"/>
          <a:stretch/>
        </p:blipFill>
        <p:spPr>
          <a:xfrm>
            <a:off x="0" y="13824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forb2" descr=""/>
          <p:cNvPicPr/>
          <p:nvPr/>
        </p:nvPicPr>
        <p:blipFill>
          <a:blip r:embed="rId2"/>
          <a:stretch/>
        </p:blipFill>
        <p:spPr>
          <a:xfrm>
            <a:off x="2362320" y="123840"/>
            <a:ext cx="2361960" cy="1476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forb3" descr=""/>
          <p:cNvPicPr/>
          <p:nvPr/>
        </p:nvPicPr>
        <p:blipFill>
          <a:blip r:embed="rId3"/>
          <a:stretch/>
        </p:blipFill>
        <p:spPr>
          <a:xfrm>
            <a:off x="4419720" y="4752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forb12" descr=""/>
          <p:cNvPicPr/>
          <p:nvPr/>
        </p:nvPicPr>
        <p:blipFill>
          <a:blip r:embed="rId4"/>
          <a:stretch/>
        </p:blipFill>
        <p:spPr>
          <a:xfrm>
            <a:off x="6629400" y="138240"/>
            <a:ext cx="2514600" cy="1571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forb14" descr=""/>
          <p:cNvPicPr/>
          <p:nvPr/>
        </p:nvPicPr>
        <p:blipFill>
          <a:blip r:embed="rId5"/>
          <a:stretch/>
        </p:blipFill>
        <p:spPr>
          <a:xfrm>
            <a:off x="0" y="365760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forb17" descr=""/>
          <p:cNvPicPr/>
          <p:nvPr/>
        </p:nvPicPr>
        <p:blipFill>
          <a:blip r:embed="rId6"/>
          <a:stretch/>
        </p:blipFill>
        <p:spPr>
          <a:xfrm>
            <a:off x="2286000" y="3733920"/>
            <a:ext cx="2629080" cy="1643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forb18" descr=""/>
          <p:cNvPicPr/>
          <p:nvPr/>
        </p:nvPicPr>
        <p:blipFill>
          <a:blip r:embed="rId7"/>
          <a:stretch/>
        </p:blipFill>
        <p:spPr>
          <a:xfrm>
            <a:off x="4419720" y="3733920"/>
            <a:ext cx="2590560" cy="1619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forb20" descr=""/>
          <p:cNvPicPr/>
          <p:nvPr/>
        </p:nvPicPr>
        <p:blipFill>
          <a:blip r:embed="rId8"/>
          <a:stretch/>
        </p:blipFill>
        <p:spPr>
          <a:xfrm>
            <a:off x="6705720" y="377208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6212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通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5638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掉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5638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向左转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行人通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486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人力货运三轮车通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1905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非机动车通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1905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机动车通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2057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驶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78000" y="2949480"/>
            <a:ext cx="62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forb21" descr=""/>
          <p:cNvPicPr/>
          <p:nvPr/>
        </p:nvPicPr>
        <p:blipFill>
          <a:blip r:embed="rId1"/>
          <a:stretch/>
        </p:blipFill>
        <p:spPr>
          <a:xfrm>
            <a:off x="0" y="39996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forb22" descr=""/>
          <p:cNvPicPr/>
          <p:nvPr/>
        </p:nvPicPr>
        <p:blipFill>
          <a:blip r:embed="rId2"/>
          <a:stretch/>
        </p:blipFill>
        <p:spPr>
          <a:xfrm>
            <a:off x="2209680" y="324000"/>
            <a:ext cx="2743200" cy="1714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forb24" descr=""/>
          <p:cNvPicPr/>
          <p:nvPr/>
        </p:nvPicPr>
        <p:blipFill>
          <a:blip r:embed="rId3"/>
          <a:stretch/>
        </p:blipFill>
        <p:spPr>
          <a:xfrm>
            <a:off x="4495680" y="31428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forb25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438280" cy="1524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forb28" descr=""/>
          <p:cNvPicPr/>
          <p:nvPr/>
        </p:nvPicPr>
        <p:blipFill>
          <a:blip r:embed="rId5"/>
          <a:stretch/>
        </p:blipFill>
        <p:spPr>
          <a:xfrm>
            <a:off x="0" y="3562200"/>
            <a:ext cx="2666880" cy="1667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forb30" descr=""/>
          <p:cNvPicPr/>
          <p:nvPr/>
        </p:nvPicPr>
        <p:blipFill>
          <a:blip r:embed="rId6"/>
          <a:stretch/>
        </p:blipFill>
        <p:spPr>
          <a:xfrm>
            <a:off x="2209680" y="3505320"/>
            <a:ext cx="259092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forb32" descr=""/>
          <p:cNvPicPr/>
          <p:nvPr/>
        </p:nvPicPr>
        <p:blipFill>
          <a:blip r:embed="rId7"/>
          <a:stretch/>
        </p:blipFill>
        <p:spPr>
          <a:xfrm>
            <a:off x="4419720" y="3429000"/>
            <a:ext cx="2743200" cy="1714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forb34" descr=""/>
          <p:cNvPicPr/>
          <p:nvPr/>
        </p:nvPicPr>
        <p:blipFill>
          <a:blip r:embed="rId8"/>
          <a:stretch/>
        </p:blipFill>
        <p:spPr>
          <a:xfrm>
            <a:off x="6705720" y="357192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2438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超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486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减速让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5410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停车检查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限制速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限制重量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鸣喇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286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禁止非机动车停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2362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解除禁止超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orde4" descr=""/>
          <p:cNvPicPr/>
          <p:nvPr/>
        </p:nvPicPr>
        <p:blipFill>
          <a:blip r:embed="rId1"/>
          <a:stretch/>
        </p:blipFill>
        <p:spPr>
          <a:xfrm>
            <a:off x="0" y="3808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orde7" descr=""/>
          <p:cNvPicPr/>
          <p:nvPr/>
        </p:nvPicPr>
        <p:blipFill>
          <a:blip r:embed="rId2"/>
          <a:stretch/>
        </p:blipFill>
        <p:spPr>
          <a:xfrm>
            <a:off x="2286000" y="38088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orde11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orde12" descr=""/>
          <p:cNvPicPr/>
          <p:nvPr/>
        </p:nvPicPr>
        <p:blipFill>
          <a:blip r:embed="rId4"/>
          <a:stretch/>
        </p:blipFill>
        <p:spPr>
          <a:xfrm>
            <a:off x="6934320" y="380880"/>
            <a:ext cx="1981080" cy="1238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orde14" descr=""/>
          <p:cNvPicPr/>
          <p:nvPr/>
        </p:nvPicPr>
        <p:blipFill>
          <a:blip r:embed="rId5"/>
          <a:stretch/>
        </p:blipFill>
        <p:spPr>
          <a:xfrm>
            <a:off x="0" y="40384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orde16" descr=""/>
          <p:cNvPicPr/>
          <p:nvPr/>
        </p:nvPicPr>
        <p:blipFill>
          <a:blip r:embed="rId6"/>
          <a:stretch/>
        </p:blipFill>
        <p:spPr>
          <a:xfrm>
            <a:off x="2362320" y="3809880"/>
            <a:ext cx="2438280" cy="1524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rde17" descr=""/>
          <p:cNvPicPr/>
          <p:nvPr/>
        </p:nvPicPr>
        <p:blipFill>
          <a:blip r:embed="rId7"/>
          <a:stretch/>
        </p:blipFill>
        <p:spPr>
          <a:xfrm>
            <a:off x="4648320" y="3733920"/>
            <a:ext cx="2438280" cy="1523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orde19" descr=""/>
          <p:cNvPicPr/>
          <p:nvPr/>
        </p:nvPicPr>
        <p:blipFill>
          <a:blip r:embed="rId8"/>
          <a:stretch/>
        </p:blipFill>
        <p:spPr>
          <a:xfrm>
            <a:off x="6781680" y="3733920"/>
            <a:ext cx="2362320" cy="1476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直行和向左转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5638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干路先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鸣喇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步行街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机动车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21337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单向行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向左或向右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环岛行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靠右侧道路行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6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学们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在没有汽车、摩托车、自行车的年代里，人们出行的忧患要少得多。那时候，人们的脚就是最好的交通工具。就是至高无上的皇帝，也只有坐轿子和马车的福份。但现在，随着工业的发展，自行车成了我们的代步工具，摩托车、汽车也成了日常公共交通工具。它们给人类的发展起到了巨大的推动作用，同时也给人类带来许多灾难，道路交通事故，已经严重威胁着人们的生命财产安全。据资料统计，到目前为止，全世界共死于交通事故的人数已达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5000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多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比世界上历次战争死亡加起来的人数还多得多，被称为当今社会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第一大公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848720" y="594360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22303" y="10800"/>
                </a:lnTo>
                <a:lnTo>
                  <a:pt x="8290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orde21" descr=""/>
          <p:cNvPicPr/>
          <p:nvPr/>
        </p:nvPicPr>
        <p:blipFill>
          <a:blip r:embed="rId1"/>
          <a:stretch/>
        </p:blipFill>
        <p:spPr>
          <a:xfrm>
            <a:off x="0" y="380880"/>
            <a:ext cx="2133720" cy="1333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006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orde25" descr=""/>
          <p:cNvPicPr/>
          <p:nvPr/>
        </p:nvPicPr>
        <p:blipFill>
          <a:blip r:embed="rId2"/>
          <a:stretch/>
        </p:blipFill>
        <p:spPr>
          <a:xfrm>
            <a:off x="6781680" y="438120"/>
            <a:ext cx="2362320" cy="1476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goal1" descr=""/>
          <p:cNvPicPr/>
          <p:nvPr/>
        </p:nvPicPr>
        <p:blipFill>
          <a:blip r:embed="rId3"/>
          <a:stretch/>
        </p:blipFill>
        <p:spPr>
          <a:xfrm>
            <a:off x="0" y="401004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goal3" descr=""/>
          <p:cNvPicPr/>
          <p:nvPr/>
        </p:nvPicPr>
        <p:blipFill>
          <a:blip r:embed="rId4"/>
          <a:stretch/>
        </p:blipFill>
        <p:spPr>
          <a:xfrm>
            <a:off x="2286000" y="4038480"/>
            <a:ext cx="2057400" cy="1285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oal5" descr=""/>
          <p:cNvPicPr/>
          <p:nvPr/>
        </p:nvPicPr>
        <p:blipFill>
          <a:blip r:embed="rId5"/>
          <a:stretch/>
        </p:blipFill>
        <p:spPr>
          <a:xfrm>
            <a:off x="4419720" y="373392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goal8" descr=""/>
          <p:cNvPicPr/>
          <p:nvPr/>
        </p:nvPicPr>
        <p:blipFill>
          <a:blip r:embed="rId6"/>
          <a:stretch/>
        </p:blipFill>
        <p:spPr>
          <a:xfrm>
            <a:off x="7238880" y="3962520"/>
            <a:ext cx="1905120" cy="11905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04920" y="2209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车道行驶方向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向、地点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向、地点、距离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623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界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点名称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520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行横道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国道编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2209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地点识别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goal18" descr=""/>
          <p:cNvPicPr/>
          <p:nvPr/>
        </p:nvPicPr>
        <p:blipFill>
          <a:blip r:embed="rId7"/>
          <a:stretch/>
        </p:blipFill>
        <p:spPr>
          <a:xfrm>
            <a:off x="2286000" y="22860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000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goal24" descr=""/>
          <p:cNvPicPr/>
          <p:nvPr/>
        </p:nvPicPr>
        <p:blipFill>
          <a:blip r:embed="rId8"/>
          <a:stretch/>
        </p:blipFill>
        <p:spPr>
          <a:xfrm>
            <a:off x="4952880" y="609480"/>
            <a:ext cx="2057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622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logo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49160" cy="1904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952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logo6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1778040" cy="19810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52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logo7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1641600" cy="20574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logo10" descr=""/>
          <p:cNvPicPr/>
          <p:nvPr/>
        </p:nvPicPr>
        <p:blipFill>
          <a:blip r:embed="rId4"/>
          <a:stretch/>
        </p:blipFill>
        <p:spPr>
          <a:xfrm>
            <a:off x="6705720" y="762120"/>
            <a:ext cx="2209680" cy="10508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095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logo11" descr=""/>
          <p:cNvPicPr/>
          <p:nvPr/>
        </p:nvPicPr>
        <p:blipFill>
          <a:blip r:embed="rId5"/>
          <a:stretch/>
        </p:blipFill>
        <p:spPr>
          <a:xfrm>
            <a:off x="304920" y="4267080"/>
            <a:ext cx="1904760" cy="10670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0006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logo1" descr=""/>
          <p:cNvPicPr/>
          <p:nvPr/>
        </p:nvPicPr>
        <p:blipFill>
          <a:blip r:embed="rId6"/>
          <a:stretch/>
        </p:blipFill>
        <p:spPr>
          <a:xfrm>
            <a:off x="2438280" y="3962520"/>
            <a:ext cx="2210040" cy="1657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9528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logo5" descr=""/>
          <p:cNvPicPr/>
          <p:nvPr/>
        </p:nvPicPr>
        <p:blipFill>
          <a:blip r:embed="rId7"/>
          <a:stretch/>
        </p:blipFill>
        <p:spPr>
          <a:xfrm>
            <a:off x="5334120" y="3733920"/>
            <a:ext cx="1528560" cy="1904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241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logo9" descr=""/>
          <p:cNvPicPr/>
          <p:nvPr/>
        </p:nvPicPr>
        <p:blipFill>
          <a:blip r:embed="rId8"/>
          <a:stretch/>
        </p:blipFill>
        <p:spPr>
          <a:xfrm>
            <a:off x="7315200" y="3886200"/>
            <a:ext cx="1482840" cy="1905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04920" y="25146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速公路指路标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6019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出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3412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入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提示出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2362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下一出口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距离确认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2438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速公路终点预告标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向左和向右转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048120" y="3049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交通安全标语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21932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在</a:t>
            </a:r>
            <a:r>
              <a:rPr b="1" lang="zh-CN" sz="2800" spc="-1" strike="noStrike">
                <a:solidFill>
                  <a:srgbClr val="00cc99"/>
                </a:solidFill>
                <a:latin typeface="宋体"/>
              </a:rPr>
              <a:t>马来西亚柔佛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交通安全周期间，交通部在一些马路口张贴了如下的标语牌：“阁下驾驶汽车时，如果时速保持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左右，可以沿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欣赏美丽风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时速超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请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法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客；超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请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医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留宿；超过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公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请你</a:t>
            </a:r>
            <a:r>
              <a:rPr b="1" lang="zh-CN" sz="2800" spc="-1" strike="noStrike" u="sng">
                <a:solidFill>
                  <a:srgbClr val="ff6600"/>
                </a:solidFill>
                <a:uFillTx/>
                <a:latin typeface="宋体"/>
              </a:rPr>
              <a:t>安息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4191120"/>
            <a:ext cx="83818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这么窄小的日本，您开着快车急着往哪里赶？”、“疏忽一秒，受害一生！”在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东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街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常可看到这类标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190512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62120" y="1523880"/>
            <a:ext cx="83818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说一说，你知道的交通安全标语………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1981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657600" y="377208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87" h="21600">
                <a:moveTo>
                  <a:pt x="19387" y="3794"/>
                </a:moveTo>
                <a:lnTo>
                  <a:pt x="33400" y="10800"/>
                </a:lnTo>
                <a:lnTo>
                  <a:pt x="19387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762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纠正违章是为了你和他人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600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大意与事故挂钩，小心与平安同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114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十次事故九次快，司机驾车当自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3623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人遵守交通法规，个个遵守交通秩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3200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横过车行道，须过人行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5029200"/>
            <a:ext cx="9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红灯停，绿灯行，人过马路横道线上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8680" y="5867280"/>
            <a:ext cx="13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机动车、非机动车、行人，要各行其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0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3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5"/>
            </a:gs>
            <a:gs pos="5000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3808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汽車机車脚踏车，来往车辆要分明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礼让守法不嬉戏，步步小心步步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120" y="2133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交通法则人人懂，要谈遵守有几人？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红灯綠灯当参考，过街路人两边闪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骑乘单车不并骑，行车驾驶不超速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交通法则人人懂，以身作则最重要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2590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商店站两旁，车辆好匆忙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彼此相礼让，平安又順暢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25146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开车不喝酒，喝酒不开车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马路如虎口，人人该遵守。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So,  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交通安全，人人有责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2438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行车安全真容易，举手之劳便可以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安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穿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安全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，不怕死神找上门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88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143000" y="2763720"/>
            <a:ext cx="6172200" cy="4094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380880" y="1143000"/>
            <a:ext cx="8763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、看谁设计的交通安全活动，更完美……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lastslide"/>
          </p:cNvPr>
          <p:cNvSpPr/>
          <p:nvPr/>
        </p:nvSpPr>
        <p:spPr>
          <a:xfrm>
            <a:off x="8153280" y="61722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22696" y="10800"/>
                </a:moveTo>
                <a:lnTo>
                  <a:pt x="12191" y="17806"/>
                </a:lnTo>
                <a:lnTo>
                  <a:pt x="12191" y="3794"/>
                </a:lnTo>
                <a:close/>
              </a:path>
              <a:path fill="darken" w="38395" h="21600">
                <a:moveTo>
                  <a:pt x="24542" y="3794"/>
                </a:moveTo>
                <a:lnTo>
                  <a:pt x="24542" y="17806"/>
                </a:lnTo>
                <a:lnTo>
                  <a:pt x="26204" y="17806"/>
                </a:lnTo>
                <a:lnTo>
                  <a:pt x="26204" y="379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  <p:sndAc>
      <p:stSnd>
        <p:snd r:embed="rId3" name="drumroll.wav"/>
      </p:stSnd>
    </p:sndAc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91440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生命是美好的，美好的东西需要精心护理，让我们居安思危，在走安全路、骑文明车中过好每一天，奋斗每一天，享受每一天，让生命之花在新世纪绽放得更为灿烂多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276720" y="30492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结 束 语</a:t>
            </a:r>
            <a:endParaRPr b="0" lang="en-US" sz="2400" spc="1" strike="noStrike">
              <a:ln cap="sq"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-6858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1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677520" cy="7257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split dir="in" orient="vert"/>
    <p:sndAc>
      <p:stSnd>
        <p:snd r:embed="rId5" name="type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d"/>
    <p:sndAc>
      <p:stSnd>
        <p:snd r:embed="rId3" name="projctor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058400" cy="696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-685800" y="14400"/>
            <a:ext cx="10363320" cy="6843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609480" y="0"/>
            <a:ext cx="10439280" cy="6888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-609480" y="0"/>
            <a:ext cx="10210680" cy="6800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-609480" y="12600"/>
            <a:ext cx="10362960" cy="684540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696080" y="6019920"/>
            <a:ext cx="1067040" cy="60948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6" name="drumroll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19320"/>
            <a:ext cx="106668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38280"/>
            <a:ext cx="914400" cy="762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495680"/>
            <a:ext cx="4572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876920"/>
            <a:ext cx="30492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省道苏溪路段发生一起重大交通事故，一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男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在翻过护栏、横穿机动车道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被一辆疾驶而至的轿车撞倒，男孩在送往医院抢救途中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死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许，跟随打工的父母从江西省上饶县郑方乡来义乌的小学生余某，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走到机动车道上玩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被从杭州方向开来的一辆小货车撞倒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天后，男童余某在人民医院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停止了心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他来义乌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多天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佛低线杭畴新村地段，江西少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的王某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因玩耍、嬉闹中任意横穿公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被一辆疾驶而至的小轿车撞倒，男孩在送往医院途中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死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486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183280"/>
            <a:ext cx="6553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你对此有何启示呢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  ？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chimes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个个轮下的冤魂用他们的生命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告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交通安全直接维系着生命安全，遵守交通规则是我们出行安全的保障。车多人多，走在路上可要当心啊，要走安全路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886200"/>
            <a:ext cx="685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与你的同伴合作讨论，怎样做才能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安全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i="1" lang="zh-CN" sz="3200" spc="-1" strike="noStrike">
                <a:solidFill>
                  <a:srgbClr val="66ff33"/>
                </a:solidFill>
                <a:latin typeface="Times New Roman"/>
              </a:rPr>
              <a:t>赛一赛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哪班哪组表现更好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previousslide"/>
          </p:cNvPr>
          <p:cNvSpPr/>
          <p:nvPr/>
        </p:nvSpPr>
        <p:spPr>
          <a:xfrm>
            <a:off x="0" y="60199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57" h="21600">
                <a:moveTo>
                  <a:pt x="15572" y="10800"/>
                </a:moveTo>
                <a:lnTo>
                  <a:pt x="29585" y="3794"/>
                </a:lnTo>
                <a:lnTo>
                  <a:pt x="29585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projctor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注意事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66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外出走路时，要走人行道；没有人行道，要靠右边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514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横过马路走人行横道；没有人行横道要直行过马路，同时看两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8098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不能翻越栏杆、隔离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648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不能横穿猛跑过马路；不往红灯枪中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5627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不在路上玩笑打闹，突然改变行走路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3794"/>
                </a:moveTo>
                <a:lnTo>
                  <a:pt x="18790" y="10800"/>
                </a:lnTo>
                <a:lnTo>
                  <a:pt x="477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419720"/>
            <a:ext cx="1371600" cy="7617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4648320"/>
            <a:ext cx="68580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191120"/>
            <a:ext cx="45720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572000"/>
            <a:ext cx="304560" cy="30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370880" y="5181480"/>
            <a:ext cx="228600" cy="152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237960"/>
            <a:ext cx="7162920" cy="50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某中学初一学生杨某，由于骑自行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不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生与汽车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碰撞事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年初七，在稠岭线某中学生在骑自行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横穿公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，被汽车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撞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，农历正月十四，在稠义线，一学生因骑自行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没有看马路两头情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直着就骑过去，被来不及刹车的汽车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</a:rPr>
              <a:t>撞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54864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41008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你对此有何启示呢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  ？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53280" y="6095880"/>
            <a:ext cx="9907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  <p:sndAc>
      <p:stSnd>
        <p:snd r:embed="rId2" name="glas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2:41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44:32Z</dcterms:modified>
  <cp:revision>42</cp:revision>
  <dc:subject>主题班会课件(分28大类): http://shop62905894.taobao.com</dc:subject>
  <dc:title>主题班会课件(分28大类): http://shop62905894.taobao.com</dc:title>
</cp:coreProperties>
</file>